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B396-BFAF-4362-B36C-DF31350AD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39D6-8E2F-4604-AE86-01ED8FF35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D67A-7BA2-4616-B043-AA907BB05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C993-D6D5-4B5A-9952-E92F04BA5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B776-DD21-4B4D-8C3C-A29D8E0C3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5038-E3D7-4D4F-B807-1F0C11428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4570-8F35-4C2E-A7BF-9F5918D42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829D-2780-4A34-8B19-8D4314C7E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3279-87FC-41C0-AFD6-63328DDDB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E04C-0B65-455D-A910-61D05D92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334F-7FEB-441B-AF67-5A51422E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D91A-C279-45AF-89F2-F6E7BC87B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D9F9E-77B8-4663-8A1C-9D94136045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Snap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art 1" descr=""/>
          <p:cNvPicPr/>
          <p:nvPr/>
        </p:nvPicPr>
        <p:blipFill>
          <a:blip r:embed="rId1"/>
          <a:stretch/>
        </p:blipFill>
        <p:spPr>
          <a:xfrm>
            <a:off x="907920" y="1047600"/>
            <a:ext cx="732816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Chart 2" descr=""/>
          <p:cNvPicPr/>
          <p:nvPr/>
        </p:nvPicPr>
        <p:blipFill>
          <a:blip r:embed="rId1"/>
          <a:stretch/>
        </p:blipFill>
        <p:spPr>
          <a:xfrm>
            <a:off x="225360" y="-6480"/>
            <a:ext cx="8315280" cy="29815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C:\Documents and Settings\kevin.yeh\My Documents\2009 Stats\Bill2009081600_HWRFx_3km_wind_swath.gif"/>
          <p:cNvPicPr/>
          <p:nvPr/>
        </p:nvPicPr>
        <p:blipFill>
          <a:blip r:embed="rId2"/>
          <a:stretch/>
        </p:blipFill>
        <p:spPr>
          <a:xfrm>
            <a:off x="457200" y="2971800"/>
            <a:ext cx="4087800" cy="3678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C:\Documents and Settings\kevin.yeh\My Documents\2009 Stats\Bill2009081600_HxGFS_3km_wind_swath.gif"/>
          <p:cNvPicPr/>
          <p:nvPr/>
        </p:nvPicPr>
        <p:blipFill>
          <a:blip r:embed="rId3"/>
          <a:stretch/>
        </p:blipFill>
        <p:spPr>
          <a:xfrm>
            <a:off x="4572000" y="2971800"/>
            <a:ext cx="44704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hart 1" descr=""/>
          <p:cNvPicPr/>
          <p:nvPr/>
        </p:nvPicPr>
        <p:blipFill>
          <a:blip r:embed="rId1"/>
          <a:stretch/>
        </p:blipFill>
        <p:spPr>
          <a:xfrm>
            <a:off x="225360" y="-6480"/>
            <a:ext cx="8315280" cy="2981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C:\Documents and Settings\kevin.yeh\My Documents\2009 Stats\Bill2009081800_HWRFx_3km_wind_swath.gif"/>
          <p:cNvPicPr/>
          <p:nvPr/>
        </p:nvPicPr>
        <p:blipFill>
          <a:blip r:embed="rId2"/>
          <a:stretch/>
        </p:blipFill>
        <p:spPr>
          <a:xfrm>
            <a:off x="457200" y="2971800"/>
            <a:ext cx="4064040" cy="3657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C:\Documents and Settings\kevin.yeh\My Documents\2009 Stats\Bill2009081800_HxGFS_3km_wind_swath.gif"/>
          <p:cNvPicPr/>
          <p:nvPr/>
        </p:nvPicPr>
        <p:blipFill>
          <a:blip r:embed="rId3"/>
          <a:stretch/>
        </p:blipFill>
        <p:spPr>
          <a:xfrm>
            <a:off x="4572000" y="2971800"/>
            <a:ext cx="44704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hart 1" descr=""/>
          <p:cNvPicPr/>
          <p:nvPr/>
        </p:nvPicPr>
        <p:blipFill>
          <a:blip r:embed="rId1"/>
          <a:stretch/>
        </p:blipFill>
        <p:spPr>
          <a:xfrm>
            <a:off x="225360" y="-6480"/>
            <a:ext cx="8315280" cy="2981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C:\Documents and Settings\kevin.yeh\My Documents\2009 Stats\Erika2009090212_HWRFx_3km_wind_swath.gif"/>
          <p:cNvPicPr/>
          <p:nvPr/>
        </p:nvPicPr>
        <p:blipFill>
          <a:blip r:embed="rId2"/>
          <a:stretch/>
        </p:blipFill>
        <p:spPr>
          <a:xfrm>
            <a:off x="457200" y="2971800"/>
            <a:ext cx="4064040" cy="3657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C:\Documents and Settings\kevin.yeh\My Documents\2009 Stats\Erika2009090212_HxGFS_3km_wind_swath.gif"/>
          <p:cNvPicPr/>
          <p:nvPr/>
        </p:nvPicPr>
        <p:blipFill>
          <a:blip r:embed="rId3"/>
          <a:stretch/>
        </p:blipFill>
        <p:spPr>
          <a:xfrm>
            <a:off x="4572000" y="2971800"/>
            <a:ext cx="44704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Chart 1" descr=""/>
          <p:cNvPicPr/>
          <p:nvPr/>
        </p:nvPicPr>
        <p:blipFill>
          <a:blip r:embed="rId1"/>
          <a:stretch/>
        </p:blipFill>
        <p:spPr>
          <a:xfrm>
            <a:off x="225360" y="-6480"/>
            <a:ext cx="8315280" cy="2981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Documents and Settings\kevin.yeh\My Documents\2009 Stats\Erika2009090312_HWRFx_3km_wind_swath.gif"/>
          <p:cNvPicPr/>
          <p:nvPr/>
        </p:nvPicPr>
        <p:blipFill>
          <a:blip r:embed="rId2"/>
          <a:stretch/>
        </p:blipFill>
        <p:spPr>
          <a:xfrm>
            <a:off x="457200" y="2971800"/>
            <a:ext cx="4064040" cy="3657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C:\Documents and Settings\kevin.yeh\My Documents\2009 Stats\Erika2009090312_HxGFS_3km_wind_swath.gif"/>
          <p:cNvPicPr/>
          <p:nvPr/>
        </p:nvPicPr>
        <p:blipFill>
          <a:blip r:embed="rId3"/>
          <a:stretch/>
        </p:blipFill>
        <p:spPr>
          <a:xfrm>
            <a:off x="4572000" y="2971800"/>
            <a:ext cx="44704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7T19:35:24Z</dcterms:created>
  <dc:creator>Administrator</dc:creator>
  <dc:description/>
  <dc:language>en-US</dc:language>
  <cp:lastModifiedBy>yeh</cp:lastModifiedBy>
  <cp:lastPrinted>2004-10-29T18:41:29Z</cp:lastPrinted>
  <dcterms:modified xsi:type="dcterms:W3CDTF">2009-10-15T02:33:31Z</dcterms:modified>
  <cp:revision>469</cp:revision>
  <dc:subject/>
  <dc:title>HIGH RESOLUTION fvGCM  RESULTS</dc:title>
</cp:coreProperties>
</file>